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9AC-2CA8-42DA-9DC4-F4068F07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157-E33A-4F56-8FD9-B02B20AF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568-83B4-48A0-9779-D49B1C46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EA3-2608-457A-A7DC-64B53A38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74C-0B78-4FAE-AC0A-BF10E1E8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55B-779E-469B-B786-FDFBE159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0BC-FF89-4097-960B-9462E691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935-1D0F-4FCF-A6FE-BBE4CC7C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CC7-2055-4C72-9676-C9BFA24E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992-2D48-4EA0-866F-A39EBF0B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F93-B858-46D8-B945-3181FBEC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3A3-8C00-4444-8F65-F2AF6E40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24B5-7595-4C0F-8A06-2193CD043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4.army.mil/OCPA/uploads/large/2006/CSA-2006-10-31-094952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00800" y="5410080"/>
            <a:ext cx="2590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wila Paris, “God is in Control,”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eyond the Dre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lbum, Star Song Communications, 199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A UH-60 Black Hawk helicopter carries Soldiers from the 10th Mountain Division on a mission in Afghanistan.  This photo appeared on www.army.mil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840"/>
            <a:ext cx="8534160" cy="6826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304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9680" y="5867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lieve that His children will not be fors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609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9040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53080" y="60948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 will choose to remember and never be sh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4120" y="51814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power above or beside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086600" y="54100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know, oh, 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85572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95680" y="6248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, 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514440"/>
            <a:ext cx="9144000" cy="5829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267080" y="6400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y marches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51814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bottom line drawn across the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47960" y="0"/>
            <a:ext cx="52480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772400" y="4572000"/>
            <a:ext cx="121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 can make its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19720" y="57150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no time for 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15960" y="0"/>
            <a:ext cx="61120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96080" y="530532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 but the line neve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114300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tter how the deception may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543800" y="3962520"/>
            <a:ext cx="137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one thing that has always bee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0240" y="0"/>
            <a:ext cx="445284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248520" y="6248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be true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15960" y="0"/>
            <a:ext cx="61120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772400" y="567072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203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320" y="533520"/>
            <a:ext cx="175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believe that His children will not be fors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162920" y="57913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604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42670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ill choose to remember and never be sh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5846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162920" y="53053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no power above or beside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238880" y="556272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know, oh, 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19240"/>
            <a:ext cx="9144000" cy="4619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57800" y="6172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time for fa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436680"/>
            <a:ext cx="9144000" cy="5984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248520" y="5562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25560"/>
            <a:ext cx="6858000" cy="6806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71600" y="5410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as never let you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03480" y="0"/>
            <a:ext cx="49370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467480" y="54100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start to worry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315200" y="5410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start to worry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" y="3808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s still the Lord of all we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6094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He is still the loving F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01720" y="0"/>
            <a:ext cx="574056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467480" y="54100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ing over you and 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2286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atching ove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98520" y="0"/>
            <a:ext cx="474696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467480" y="57913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ing over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6042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477120" y="55627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ing over ever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19160" y="0"/>
            <a:ext cx="530568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467480" y="53053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ing over you, watching over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920" y="2286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little sp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47920" y="6172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little king, oh,            every little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86120" y="0"/>
            <a:ext cx="517176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4380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5105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495288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19080"/>
            <a:ext cx="7467840" cy="6819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562720" y="763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believe that His children will not be fors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19920" y="228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7148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ill choose to remember and never be sh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52280" y="15228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no power above or beside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391520" y="5029200"/>
            <a:ext cx="1752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, 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, 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25520" y="0"/>
            <a:ext cx="46929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2280" y="228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kn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, God is in contr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971800" y="6172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, 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10080" y="6400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ose the vis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15000" y="5943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ried away by the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2076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67280" y="54100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on to all that you hide in your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27000"/>
            <a:ext cx="7391520" cy="6873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52880" y="603576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one thing that has always bee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43200" y="6172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holds the worl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6:50:14Z</dcterms:created>
  <dc:creator>HP Authorized Customer</dc:creator>
  <dc:description/>
  <dc:language>en-US</dc:language>
  <cp:lastModifiedBy>HP Authorized Customer</cp:lastModifiedBy>
  <dcterms:modified xsi:type="dcterms:W3CDTF">2009-03-19T21:22:18Z</dcterms:modified>
  <cp:revision>12</cp:revision>
  <dc:subject/>
  <dc:title>Slide 1</dc:title>
</cp:coreProperties>
</file>