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552E-7EE2-4740-BAF6-22F769645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D58-1643-4250-8793-797845FD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A51-EE4F-4652-9A31-2C13D5E3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D5B-0E92-45A0-811F-EA330F34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FFC-C045-4972-85A5-2D3A69F5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791-3287-4CDA-BE86-07EF59A3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C6F-B6C4-4956-9FF7-099AC848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497-1136-469E-B726-C87D6F2E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412-6C3A-4379-8D61-AEF9EEA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125-4C2D-4D7E-AE85-920A97F9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136-27A3-4E81-9D70-D17FDC2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EF5-43AD-4EC1-9105-633CBE8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E9B-B644-466B-8A90-7B81289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44CC-4B6F-453A-BB78-53E58081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5.xml"/><Relationship Id="rId11" Type="http://schemas.openxmlformats.org/officeDocument/2006/relationships/slide" Target="slide10.xml"/><Relationship Id="rId12" Type="http://schemas.openxmlformats.org/officeDocument/2006/relationships/slide" Target="slide15.xml"/><Relationship Id="rId13" Type="http://schemas.openxmlformats.org/officeDocument/2006/relationships/slide" Target="slide6.xml"/><Relationship Id="rId14" Type="http://schemas.openxmlformats.org/officeDocument/2006/relationships/slide" Target="slide11.xml"/><Relationship Id="rId15" Type="http://schemas.openxmlformats.org/officeDocument/2006/relationships/slide" Target="slide16.xml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achings of Jes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s and Wo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able Quot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s 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ssion Improb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6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2286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Double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11120" y="1752480"/>
            <a:ext cx="52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two sisters saw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se their brother to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13640" y="1752480"/>
            <a:ext cx="50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two disciples hea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an lame from 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were then arrest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12920" y="1752480"/>
            <a:ext cx="50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ok!  The Lamb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takes away the si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ld!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12200" y="1752480"/>
            <a:ext cx="590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ly Spirit will com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, and the power of the 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will overshadow you.  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ly one to be born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called Son of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12920" y="1752480"/>
            <a:ext cx="551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rd, to whom shall we 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have the word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ernal lif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13640" y="1752480"/>
            <a:ext cx="520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ee heaven open and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 of Man stand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ight hand of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14360" y="1752480"/>
            <a:ext cx="561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ant you to give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 the hea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ohn the Baptist on a platter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12200" y="1752480"/>
            <a:ext cx="41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rote the book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13280" y="1752480"/>
            <a:ext cx="515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ly Spirit came 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iples on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stival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13640" y="1752480"/>
            <a:ext cx="49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the first Gent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ceive the Holy Spir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12200" y="1752480"/>
            <a:ext cx="491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used this parabl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what it mean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ve one’s neighb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14000" y="175248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postle went to Sa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preach the gospel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13280" y="1752480"/>
            <a:ext cx="57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ter quoted from this prop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he explained th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in tongu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12920" y="1752480"/>
            <a:ext cx="52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’s home base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sent him out on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ions was located in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4000" y="1752480"/>
            <a:ext cx="57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and Silas shared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spel with their jailer and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 in this c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13280" y="1752480"/>
            <a:ext cx="530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stayed with this cou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his year and a half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in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14000" y="1752480"/>
            <a:ext cx="568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spent more time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hurch in this city than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othe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12200" y="1752480"/>
            <a:ext cx="558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was shipwrecked on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land for months whil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way to R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14000" y="1752480"/>
            <a:ext cx="487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used this parabl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different peopl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s to the gosp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12920" y="1752480"/>
            <a:ext cx="596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used this parabl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why he has compa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sin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13640" y="1752480"/>
            <a:ext cx="51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long teaching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gan with many “blesse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came to be known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erm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12560" y="1752480"/>
            <a:ext cx="483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taught this Phari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ed to be born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Spirit to ente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dom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13280" y="1752480"/>
            <a:ext cx="529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was Jesus’ first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ough which He revea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3280" y="1752480"/>
            <a:ext cx="54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twelve year old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raised back to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13640" y="1752480"/>
            <a:ext cx="45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ese items He 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0 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HP Authorized Customer</cp:lastModifiedBy>
  <dcterms:modified xsi:type="dcterms:W3CDTF">2009-05-25T21:21:48Z</dcterms:modified>
  <cp:revision>42</cp:revision>
  <dc:subject/>
  <dc:title>Slide 1</dc:title>
</cp:coreProperties>
</file>