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F03-AFAB-4203-9B98-E0CFE47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8D3-D5CB-4301-A16C-E7862E5A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06D-39EA-491A-8AD9-396A9A8A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A57-A6B4-4C2B-A2C7-DD7ABABB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91F-B53D-443E-9EA2-DC53A390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E9A-D2AB-4967-995B-7270E35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E47-F892-431C-B87E-7EBFF151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EF8-E46E-49FB-918A-B25F8FBC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8C0-C3CF-4C62-AE14-05A3732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17E-DC06-4E55-8323-6CF5F46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D77-8906-4F9A-A6CC-A5CD4C1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A12-2A10-4412-829D-0119D79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618D-1DD5-45EB-9042-ACC73E13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7080" y="0"/>
            <a:ext cx="474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724280"/>
            <a:ext cx="4572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ORELLI, Luc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rrection of the Fles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99-150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s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el of San Brizi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mo, Orvie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Gallery of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2840" y="166680"/>
            <a:ext cx="9229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954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ELICO, F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rrection of Christ and Women at the Tom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-4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sco, 189 x 164 c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o di San Marco, Floren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3117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724280"/>
            <a:ext cx="2210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CO, E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surrec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6-16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canvas, 275 x 127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eo del Prado, Madri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1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YDEN, Lucas v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st Judgm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2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panel, 271 x 185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delijk Museum De Lakenhal, L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0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362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YDEN, Lucas v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st Judgment (detai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2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o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delijk Museum De Lakenhal, Leide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8120" y="0"/>
            <a:ext cx="4125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5136120"/>
            <a:ext cx="332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UTS, Dieric the El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di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5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wood, 115 x 69,5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ée des Beaux-Arts, L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Gallery of 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88960" y="0"/>
            <a:ext cx="6164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6668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HELANGELO Buonarrot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t Judgm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37-4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sc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pella Sis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tica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0:26:45Z</dcterms:created>
  <dc:creator>HP Authorized Customer</dc:creator>
  <dc:description/>
  <dc:language>en-US</dc:language>
  <cp:lastModifiedBy>HP Authorized Customer</cp:lastModifiedBy>
  <dcterms:modified xsi:type="dcterms:W3CDTF">2009-04-13T20:59:50Z</dcterms:modified>
  <cp:revision>7</cp:revision>
  <dc:subject/>
  <dc:title>Slide 1</dc:title>
</cp:coreProperties>
</file>