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png" ContentType="image/png"/>
  <Override PartName="/ppt/media/image14.png" ContentType="image/png"/>
  <Override PartName="/ppt/media/image8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0F6-E07E-40B4-9016-9EEC6A19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4D6-7499-4540-92F2-B40B8580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16D-B46C-4FCC-BEFF-226E857F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131-F27F-4D21-8712-C28846DC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E31-3BB0-4363-AA08-C86A9755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A4C-181D-4560-86BE-6267FE3A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512-07E9-4F99-955B-ED57A096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304-6311-4AD3-9E59-DA282CCC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7F5-1679-43A1-A222-C83BD31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C25-8FA6-4C20-8979-749CA87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412-C873-40D9-8CA4-7D1723E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332-D2E3-499D-98BC-7B5B268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C641-05A8-4C15-8E08-AF25DC724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5.jpe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581040" cy="412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09680" y="5257800"/>
            <a:ext cx="586080" cy="58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1600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154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aul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David    Solo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51    1011  971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52578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hobo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6002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roboa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257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13 9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867280"/>
            <a:ext cx="838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irewall"/>
          <p:cNvSpPr/>
          <p:nvPr/>
        </p:nvSpPr>
        <p:spPr>
          <a:xfrm>
            <a:off x="6858000" y="5486400"/>
            <a:ext cx="533520" cy="2286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864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d Benjamin Plat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876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Jehoshap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257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5257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1371600"/>
            <a:ext cx="0" cy="4495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4876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Jo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52960" y="1219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h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67080" y="5486400"/>
            <a:ext cx="6098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52960" y="2286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Jezeb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62120" y="3657600"/>
            <a:ext cx="38412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219320" y="3657600"/>
            <a:ext cx="801720" cy="569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462560" y="1600200"/>
            <a:ext cx="217440" cy="768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91120" y="259092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Elij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Elis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80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sing the house of Omri, 8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1219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robo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835040" y="774720"/>
            <a:ext cx="736560" cy="711000"/>
          </a:xfrm>
          <a:custGeom>
            <a:avLst/>
            <a:gdLst>
              <a:gd name="textAreaLeft" fmla="*/ 360 w 736560"/>
              <a:gd name="textAreaRight" fmla="*/ 737280 w 7365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69" stAng="10800000" swAng="5400000"/>
                <a:lnTo>
                  <a:pt x="14850" y="4291"/>
                </a:lnTo>
                <a:lnTo>
                  <a:pt x="14850" y="0"/>
                </a:lnTo>
                <a:lnTo>
                  <a:pt x="21600" y="6079"/>
                </a:lnTo>
                <a:lnTo>
                  <a:pt x="14850" y="12158"/>
                </a:lnTo>
                <a:lnTo>
                  <a:pt x="14850" y="7867"/>
                </a:lnTo>
                <a:lnTo>
                  <a:pt x="12427" y="7867"/>
                </a:lnTo>
                <a:arcTo wR="8851" hR="4293" stAng="16200000" swAng="-5400000"/>
                <a:lnTo>
                  <a:pt x="3576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4572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lmaneser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6925680" y="2292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le to Assy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858000" y="5867280"/>
            <a:ext cx="536400" cy="606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0572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Uzz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 flipH="1">
            <a:off x="228600" y="3733920"/>
            <a:ext cx="380880" cy="21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6629400" y="1676520"/>
            <a:ext cx="660240" cy="83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0120" y="4876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h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457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lath-Pileser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468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5715000" y="5486400"/>
            <a:ext cx="533520" cy="37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96080" y="5562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sa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9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5334120" y="1828800"/>
            <a:ext cx="98100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>
            <a:off x="13716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08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133720"/>
            <a:ext cx="144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e began 480 yrs. after Exodus (1 Ki. 6: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5146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495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Obadi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4648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848-8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2666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67-7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44956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Micah </a:t>
            </a:r>
            <a:r>
              <a:rPr b="0" lang="en-US" sz="14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724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35 </a:t>
            </a:r>
            <a:r>
              <a:rPr b="0" lang="en-US" sz="1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J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4343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835-8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819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Ho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971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60-7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41148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Isaiah </a:t>
            </a:r>
            <a:r>
              <a:rPr b="0" lang="en-US" sz="12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3434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39-6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89000" y="4654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bij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193920" y="92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aas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1219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sh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419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4572000"/>
            <a:ext cx="812880" cy="487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1460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Jos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4419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Hezek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19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781200" cy="398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14400" y="4419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6 6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ass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42900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nacher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syri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52092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403848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5 597 5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342900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buchadnezzar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bylonian sie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925720" y="495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iel t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002400" y="5256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zekiel &amp; Jehoiach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05320" y="5942880"/>
            <a:ext cx="1066680" cy="76212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60" stAng="10800000" swAng="5400000"/>
                <a:lnTo>
                  <a:pt x="15100" y="45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7658"/>
                </a:lnTo>
                <a:lnTo>
                  <a:pt x="12427" y="7658"/>
                </a:lnTo>
                <a:arcTo wR="9269" hR="4502" stAng="16200000" swAng="-5400000"/>
                <a:lnTo>
                  <a:pt x="31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3274920" y="540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rusalem &amp; temple ra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6216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Yr Exile to Bab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419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304920"/>
            <a:ext cx="18288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9-Cyrus takes Babyl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8-Issue dec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7-Zerubbabel leads 1st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to Jerusal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6-Temple Foundation la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181480" y="1600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5035320" y="5035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Haggai &amp; Zechari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5256360" y="3427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es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5675400" y="33134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le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7  4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6627600" y="32752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zra (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tu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6932880" y="3123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hemiah (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tu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007600">
            <a:off x="4724280" y="1980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661400">
            <a:off x="5638680" y="1828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599600">
            <a:off x="6477480" y="1828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er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488000">
            <a:off x="7239240" y="1752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172200" y="4495680"/>
            <a:ext cx="685800" cy="378000"/>
            <a:chOff x="6172200" y="4495680"/>
            <a:chExt cx="685800" cy="378000"/>
          </a:xfrm>
        </p:grpSpPr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6172200" y="4495680"/>
              <a:ext cx="6858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 txBox="1"/>
            <p:nvPr/>
          </p:nvSpPr>
          <p:spPr>
            <a:xfrm>
              <a:off x="6172200" y="4495680"/>
              <a:ext cx="6858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620120" y="4495680"/>
            <a:ext cx="556920" cy="752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17880" y="12556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K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048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Mica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2004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048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Nah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2160" y="3200400"/>
            <a:ext cx="64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60-6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Ninev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Isa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28195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Zephan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3200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28-6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Habakk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2895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09-5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Jerem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200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28-5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Ezek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895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593-5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0481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Dan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32004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05-5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5637240" y="457092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5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5264280" y="57060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520-4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8213400" y="47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Mala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8083800" y="471564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433-4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286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Script MT Bold"/>
              </a:rPr>
              <a:t>Es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ff"/>
                </a:solidFill>
                <a:latin typeface="Arial"/>
              </a:rPr>
              <a:t>483-4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1:45:32Z</dcterms:created>
  <dc:creator>HP Authorized Customer</dc:creator>
  <dc:description/>
  <dc:language>en-US</dc:language>
  <cp:lastModifiedBy>HP Authorized Customer</cp:lastModifiedBy>
  <dcterms:modified xsi:type="dcterms:W3CDTF">2009-01-07T17:03:25Z</dcterms:modified>
  <cp:revision>7</cp:revision>
  <dc:subject/>
  <dc:title>Slide 1</dc:title>
</cp:coreProperties>
</file>