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B78E-B260-4728-B107-E468959A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B9B-8F42-41A8-B97D-BE46EFA5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CB6E-7F2E-40AC-812F-82E85162D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707A-AFFD-4741-99BF-B4EFAE24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E5C-FE62-423B-966B-83BFE694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D28-AAD3-447F-9532-A000D597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F42-ECDF-4A46-BDEA-CAEF4614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00F-91BB-433C-8F09-3BF72EF4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EE3-FF40-4C2F-96AE-A83BFCF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C95-BEE7-4E6F-92CD-7214E74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DA0-CEE7-421E-905A-68317D17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7DD-CD48-4697-AB8B-C1DF3A28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57E-53B8-4FB6-BA7C-EB0B5AD9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FBF-062F-4C29-A501-318CAB1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8C4-8755-479B-914F-3F926BA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CA8-B9E7-4908-8C86-7614136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8C22-BF26-40BF-8BAA-8BABC15D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4191120" y="2286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668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tion, Location,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ysfunctional Fami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 Said,         She Sa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’s in a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r and Pe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5" descr=""/>
          <p:cNvPicPr/>
          <p:nvPr/>
        </p:nvPicPr>
        <p:blipFill>
          <a:blip r:embed="rId26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14400" y="13716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avid arrived to the battle with Goliath, this older brother said, "I know how conceited you are and how wicked your heart is: you came down only to watch the battle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211840" y="1752480"/>
            <a:ext cx="52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rother saved Joseph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fe by throwing him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it inst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13640" y="175248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 my people go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212560" y="1752480"/>
            <a:ext cx="57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for me and my househ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will serve the LOR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13640" y="1752480"/>
            <a:ext cx="450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intended to h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, but God intended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go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212920" y="175248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you go I will g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you stay, I wi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y.  Your people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people and your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G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213280" y="1752480"/>
            <a:ext cx="38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are that ma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213640" y="17524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new name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ther of many nation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213280" y="1752480"/>
            <a:ext cx="44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identified Him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is name a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rning b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212920" y="1752480"/>
            <a:ext cx="51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was his new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he wrestled with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13280" y="1752480"/>
            <a:ext cx="453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es received the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andm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212560" y="175248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name means, “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w him out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er.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214000" y="1752480"/>
            <a:ext cx="453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nted to be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a” because her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bi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213280" y="1752480"/>
            <a:ext cx="481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hilistine was ki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a shepherd and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lingsho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213640" y="1752480"/>
            <a:ext cx="505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ould build the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he was a ma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11120" y="1752480"/>
            <a:ext cx="474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mson was suppo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eat these people 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rried one any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213640" y="1752480"/>
            <a:ext cx="45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was here that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od still during bat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213640" y="1752480"/>
            <a:ext cx="520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ity was only defe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Achan’s sin w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lt wi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13280" y="1752480"/>
            <a:ext cx="476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id made thi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apital of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brought the ark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12920" y="1752480"/>
            <a:ext cx="42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lls of this 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umbling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13640" y="1752480"/>
            <a:ext cx="47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rael rebelled here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feared go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12200" y="1752480"/>
            <a:ext cx="532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this mountain, Mo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ewed the Promised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n di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12560" y="1752480"/>
            <a:ext cx="502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rop-growing 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lled his flock-kee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213280" y="1752480"/>
            <a:ext cx="51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rother stole his o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ther’s birth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13280" y="175248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ormented Elkanah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vorite wife Hanna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Shelley Leith</cp:lastModifiedBy>
  <dcterms:modified xsi:type="dcterms:W3CDTF">2009-06-05T00:06:27Z</dcterms:modified>
  <cp:revision>29</cp:revision>
  <dc:subject/>
  <dc:title>Slide 1</dc:title>
</cp:coreProperties>
</file>