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E3F-F457-486B-BFA2-F3006993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218-713F-41A9-8AF5-01411275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73E-AA99-413A-9F49-995662B6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D45-6C40-4AD4-829E-0E038424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263-050D-43FD-BC6A-0E75941B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C5E-7861-464F-9390-38E6225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76A-589E-4D33-BF42-8C0E30E8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6E1-8277-4001-8F2A-AE919C2E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54E-33AE-4FCB-9C27-AB375B9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1A1-5A02-4A0B-8C63-C6258D16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EB1-76F1-43A3-B67E-2C200CE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52C-5EE4-4191-AC47-CB0DE326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5F9-8552-4D18-9505-51A8A93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DD4-CB7E-4E0A-A6F5-B27C9DBB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152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707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ings and Th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phet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tion, Location,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 Out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e Sweet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1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2920" y="1752480"/>
            <a:ext cx="589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the last Old 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phet and said that Elija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come before the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dreadful day of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13280" y="1752480"/>
            <a:ext cx="460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hepherd of Te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ned Israel to prep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eet he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13640" y="1752480"/>
            <a:ext cx="52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aring for his life,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ed to this mountain 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rd spoke to him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tle whis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14360" y="1752480"/>
            <a:ext cx="53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jah called down fir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ven to consum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 on this mountai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end God against Ba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14000" y="1752480"/>
            <a:ext cx="597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decai lived in this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ty of the Persian empire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Xerxes took Es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qu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15800" y="1752480"/>
            <a:ext cx="530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ity became the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northern terri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Israe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14360" y="1752480"/>
            <a:ext cx="583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oboam placed here a go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f, installed priests, off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s and instituted a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stival in this city to mim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entic worship and hold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his powe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13280" y="1752480"/>
            <a:ext cx="60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abylonian king destr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 in three sieg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k thousands cap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14720" y="1752480"/>
            <a:ext cx="597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young Judean nob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put in charge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nce of Babylon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ly interpreting the king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12920" y="1752480"/>
            <a:ext cx="535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reigned over Israel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were taken ca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ssyri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2920" y="1752480"/>
            <a:ext cx="574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was the final reign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monarchy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rael which ended in 931 B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12920" y="1752480"/>
            <a:ext cx="535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ophet was already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ile when he warned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coming doom for th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belie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12560" y="1752480"/>
            <a:ext cx="53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reigning over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he and ten thou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deans were taken pris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abyl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12920" y="1752480"/>
            <a:ext cx="56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prophesied that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be in exile for 70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n return to the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2200" y="1752480"/>
            <a:ext cx="52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king of Persia issued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ree allowing the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turn to Jerusalem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build their te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13640" y="1752480"/>
            <a:ext cx="56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festival celebrates Go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iverance of the Jew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from Haman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mpted genocid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14360" y="1752480"/>
            <a:ext cx="515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leader is credi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building the wall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14000" y="175248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eople obeyed this 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rned Zerubbabel to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 to work on the Lord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12920" y="1752480"/>
            <a:ext cx="518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ood king wa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ard by whom all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s were meas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13280" y="1752480"/>
            <a:ext cx="571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king lacked the wis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his father Solomon 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rejected the advice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ders and split the king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13640" y="1752480"/>
            <a:ext cx="52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evil king of Israel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 Baal worship and 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d his firstborn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rebuilding of Jeric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14000" y="1752480"/>
            <a:ext cx="595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became king of Judah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years old and perpetr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rrific evil including sh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nocent blood, star worshi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idolatry in the temp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2560" y="1752480"/>
            <a:ext cx="571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told him to marry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ulterous woman 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on Israel’s faithful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3280" y="1752480"/>
            <a:ext cx="614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eatest of writing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ed King Hezekiah th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nacherib’s Assyrian th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12920" y="1752480"/>
            <a:ext cx="520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prophesied tha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unammite woman 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a son whom he l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sed from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HP Authorized Customer</cp:lastModifiedBy>
  <dcterms:modified xsi:type="dcterms:W3CDTF">2009-05-25T21:25:04Z</dcterms:modified>
  <cp:revision>22</cp:revision>
  <dc:subject/>
  <dc:title>Slide 1</dc:title>
</cp:coreProperties>
</file>