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CF90-EBDC-48EF-83C4-EF1BFF7AC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3B0F-40CF-48F8-A5F9-08B6326D1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1E5F-2F57-4491-869E-57C913A08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1022-20DF-4E5F-BE35-D30EB3A15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4E6-CBC7-4C63-A97B-93CFA170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70D-BF13-4FA9-83FB-D86D1646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C54-F2CE-4FD1-A03F-26E79E91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4BF-A5FF-47BD-90CA-1A59C157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CDB-02AA-42CE-9DEA-372C1446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9D9-DEE7-4539-84B6-B9D49E73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F9D-A878-48A8-BC47-AFB95FF0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E14-26D3-4943-BD2B-C94C7ADA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55B-501C-4990-9266-7E0406E9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35B-4082-4352-A0C6-EE01FB73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AA6-1A8E-4106-98F8-0EEC87C7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BA9-D527-4A36-BD9C-F27872A2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5489-29D7-41B0-B083-1524D9EEA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5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6.xml"/><Relationship Id="rId26" Type="http://schemas.openxmlformats.org/officeDocument/2006/relationships/image" Target="../media/image1.wm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1143000"/>
          <a:ext cx="8381880" cy="547524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mbs a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m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vents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appen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o’s W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t’s a Z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 Th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men of 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ld Testa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165" descr=""/>
          <p:cNvPicPr/>
          <p:nvPr/>
        </p:nvPicPr>
        <p:blipFill>
          <a:blip r:embed="rId26"/>
          <a:stretch/>
        </p:blipFill>
        <p:spPr>
          <a:xfrm>
            <a:off x="457200" y="152280"/>
            <a:ext cx="2057400" cy="863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67"/>
          <p:cNvSpPr/>
          <p:nvPr/>
        </p:nvSpPr>
        <p:spPr>
          <a:xfrm>
            <a:off x="2819520" y="2286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Perpetua Titling MT"/>
              </a:rPr>
              <a:t>Double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213280" y="1752480"/>
            <a:ext cx="443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ovenant sign 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 know that God wi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ver again destroy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th with a fl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212200" y="1752480"/>
            <a:ext cx="453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deon asked for a w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dry sign of God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se by placing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the threshing flo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212560" y="175248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d said to this pers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ke off your sandals,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lace you are 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holy groun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212920" y="1752480"/>
            <a:ext cx="497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two men were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ly adults from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odus allowed to go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romised 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212560" y="1752480"/>
            <a:ext cx="5232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d said to this pers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 strong and courage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 not be afraid; do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d, for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God will be with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ver you go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2212920" y="1752480"/>
            <a:ext cx="535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az served as one of the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Ruth and Naom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214720" y="1752480"/>
            <a:ext cx="503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riest stopped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al worship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morality at Shittim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sp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2212200" y="1752480"/>
            <a:ext cx="476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ORD provided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place of Isaa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212920" y="17524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aron threw gold into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e and out came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213280" y="1752480"/>
            <a:ext cx="525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meat was still bet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ir teeth when God str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m with a plague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umbl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212560" y="1752480"/>
            <a:ext cx="51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womb was empty unt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s 90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212920" y="1752480"/>
            <a:ext cx="468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le God sent thes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udge Israel in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lderness, He als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vided a way to l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213640" y="1752480"/>
            <a:ext cx="512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than’s judgment par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David substituted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imal for Bathsheb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211840" y="1752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accused Joseph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ying to rape 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212200" y="1752480"/>
            <a:ext cx="47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turned leprous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challenged Mo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211840" y="175248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hid spies on her roo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212200" y="1752480"/>
            <a:ext cx="499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gave the LORD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, “The God who s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212560" y="1752480"/>
            <a:ext cx="492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drove a stake th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sera’s h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212560" y="1752480"/>
            <a:ext cx="487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 she criticized 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ncing husband, she 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 children to the day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dea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212920" y="1752480"/>
            <a:ext cx="524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empty womb promp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rayer that w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understood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unken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213280" y="1752480"/>
            <a:ext cx="481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rongfully died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ttle because of David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212920" y="1752480"/>
            <a:ext cx="49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imelek and his two 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ed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211840" y="1752480"/>
            <a:ext cx="43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ot Joseph out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2214000" y="1752480"/>
            <a:ext cx="500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event commemo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d’s protection of Isr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 the plague of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pon Egyp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212560" y="1752480"/>
            <a:ext cx="434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cause Saul was thi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vid refused to lay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nd upon h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Shelley Leith</cp:lastModifiedBy>
  <dcterms:modified xsi:type="dcterms:W3CDTF">2009-05-04T02:37:48Z</dcterms:modified>
  <cp:revision>29</cp:revision>
  <dc:subject/>
  <dc:title>Slide 1</dc:title>
</cp:coreProperties>
</file>