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D9CA-B4B1-497C-A3D9-B237E0424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FD85-1646-4C68-AF78-8DDDA267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3434-0BCF-434A-8E5F-90AE5CBF3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EE24-043C-4FD5-8966-392B08FDC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7907-2E5D-473B-A15A-ED16C81A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8236-5CFB-4BBB-9BB3-C59763F7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1A64-CFB3-425D-B1D3-BA1E91FF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C358-2D74-4DCF-BB35-D2BFAD54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F3B3-0E51-475A-88DA-D88CBD6C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CC8E-4E48-4222-A947-BC3555A6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65B3-E201-416A-9266-8617C484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D97B-C50A-433D-A19D-4017D407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9EEB-4F50-4D6D-9E56-899604842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ope of pluralism in belief in practice in America’s Evangel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ew Forum on Religion and Public Life (200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se tables were all accessed on Nov. 10,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http://religions.pewforum.org/comparisons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598320"/>
            <a:ext cx="7315200" cy="566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89940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711360"/>
            <a:ext cx="7619760" cy="54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593640"/>
            <a:ext cx="6781680" cy="56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814320"/>
            <a:ext cx="746748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4:34:11Z</dcterms:created>
  <dc:creator>HP Authorized Customer</dc:creator>
  <dc:description/>
  <dc:language>en-US</dc:language>
  <cp:lastModifiedBy>HP Authorized Customer</cp:lastModifiedBy>
  <dcterms:modified xsi:type="dcterms:W3CDTF">2009-01-07T17:11:10Z</dcterms:modified>
  <cp:revision>6</cp:revision>
  <dc:subject/>
  <dc:title>Slide 1</dc:title>
</cp:coreProperties>
</file>