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B8EB-AFA9-41CF-B2ED-A9F1496AA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01E7-3345-4604-874E-95778E7CB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9EAD-28C1-48D4-B2D8-F51A1DFA5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CE05-2009-494B-8E02-D8F79EC09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ED10-934B-4877-A010-B8A209C33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879A-6342-49C0-AF84-C8EC873BB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7617-F898-430E-80DC-D9912B4CA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5F1E-E6BB-4C82-AD86-B5671E127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8E67-2150-455D-8031-E36B55E60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7C79-292E-4540-8377-93220282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B973-6F8E-4241-B3FF-33868253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F26D-14B3-4730-A3E1-9DB09B77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CDC30-E957-4B1B-9973-D40138A48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ll art used with permission from Web Gallery of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ww.wga.h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247920" y="0"/>
            <a:ext cx="2648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935680" y="5700600"/>
            <a:ext cx="2948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ELANGELO Buonarrot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rist Carrying the Cros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2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ble, height 205 cm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nta Maria sopra Minerva, Rom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b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3520" y="-6480"/>
            <a:ext cx="8001000" cy="6864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57200" y="0"/>
            <a:ext cx="2286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LTDORFER, Albrecht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rist on the Cross between Mary and St John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. 151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imewood, Staatliche Museen, Kassel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1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49640" y="0"/>
            <a:ext cx="46447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58000" y="5640480"/>
            <a:ext cx="22860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REA DA FIRENZ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ucifix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70-77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mpera on wood, Pinacoteca, Vatic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2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57440" y="0"/>
            <a:ext cx="40291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781680" y="5276880"/>
            <a:ext cx="2362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TONIO DA FIRENZ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ucifixion with Mary and St John the Evangeli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00-5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mpera on wood, The Hermitage, St. Petersburg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075040" y="0"/>
            <a:ext cx="49939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010280" y="5639040"/>
            <a:ext cx="213372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BREU, Jörg the Elder</a:t>
            </a:r>
            <a:br>
              <a:rPr sz="1400"/>
            </a:b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Crucifixion</a:t>
            </a:r>
            <a:br>
              <a:rPr sz="1400"/>
            </a:b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1524</a:t>
            </a:r>
            <a:br>
              <a:rPr sz="1400"/>
            </a:b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Museum of Fine Arts, Budapes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b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534160" cy="7043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858000" y="5410080"/>
            <a:ext cx="19051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IOTTO di Bondone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rucifixion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310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esco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rth transept, Lower Church, San Francesco, Assisi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25760" y="0"/>
            <a:ext cx="409248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934320" y="5456520"/>
            <a:ext cx="22096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FFAELLO Sanzio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ucifixion (Città di Castello Altarpiec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02-03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tional Gallery, Londo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d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066680" y="0"/>
            <a:ext cx="7010640" cy="6908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937840" y="0"/>
            <a:ext cx="20674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46d"/>
                </a:solidFill>
                <a:latin typeface="Arial"/>
              </a:rPr>
              <a:t>VERONESE, Paolo</a:t>
            </a:r>
            <a:br>
              <a:rPr sz="1400"/>
            </a:br>
            <a:r>
              <a:rPr b="0" lang="en-US" sz="1400" spc="-1" strike="noStrike">
                <a:solidFill>
                  <a:srgbClr val="ffc46d"/>
                </a:solidFill>
                <a:latin typeface="Arial"/>
              </a:rPr>
              <a:t>Crucifixion</a:t>
            </a:r>
            <a:br>
              <a:rPr sz="1400"/>
            </a:br>
            <a:r>
              <a:rPr b="0" lang="en-US" sz="1400" spc="-1" strike="noStrike">
                <a:solidFill>
                  <a:srgbClr val="ffc46d"/>
                </a:solidFill>
                <a:latin typeface="Arial"/>
              </a:rPr>
              <a:t>c. 1582</a:t>
            </a:r>
            <a:br>
              <a:rPr sz="1400"/>
            </a:br>
            <a:r>
              <a:rPr b="0" lang="en-US" sz="1400" spc="-1" strike="noStrike">
                <a:solidFill>
                  <a:srgbClr val="ffc46d"/>
                </a:solidFill>
                <a:latin typeface="Arial"/>
              </a:rPr>
              <a:t>Musée du Louvre, Paris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19320" y="0"/>
            <a:ext cx="684828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477120" y="0"/>
            <a:ext cx="26668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ICHELANGELO Buonarroti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ietà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499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rble, height 174 cm, width at the base 195 cm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silica di San Pietro, Vatica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9T21:13:11Z</dcterms:created>
  <dc:creator>HP Authorized Customer</dc:creator>
  <dc:description/>
  <dc:language>en-US</dc:language>
  <cp:lastModifiedBy>HP Authorized Customer</cp:lastModifiedBy>
  <dcterms:modified xsi:type="dcterms:W3CDTF">2009-05-06T15:20:38Z</dcterms:modified>
  <cp:revision>5</cp:revision>
  <dc:subject/>
  <dc:title>Slide 1</dc:title>
</cp:coreProperties>
</file>