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295-535B-44B9-B4B2-693750FA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F66-B5DF-43EB-AD1F-12E7435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13B-D2C9-4E70-81F4-90BAA6CF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363-E67D-4681-8E39-8E052AE1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BDC-40F8-4E02-B02F-DDF0A5BA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A62-D445-4203-9836-D05249A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4090-ADA5-42A4-B0DF-6A15CC3F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95E4-4D8C-4890-A8AA-EB024525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CA13-0670-420C-8125-539AA3E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811-6BE3-4688-B9F7-038CD6F5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7065-1887-4547-A349-1F5DB7F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CAE-8E08-4114-AED5-0B846DD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683D-FB3C-4E64-94BE-373F723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C87-FF28-445A-815D-184B475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AB87-E8FC-4A5F-90F6-D257BB17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459-65D2-4D58-B27F-07A51700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F9A-6EEC-497F-9F25-E8D4531C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838-2FCB-460B-9E8C-D4F726E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B04-FBD1-4A3F-A429-E8D894CB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50F-F74D-4D09-810F-2B99221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797-557F-461D-9F06-066ED656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70C-38E6-483F-995D-E3FEA67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C0E-5621-4C5D-8C16-D0D22AE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4BC-6209-4DEF-826D-BF09010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33D-18CB-48A0-B188-B1E7A014C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9726-08FF-4678-942C-7C432BCD34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fatherjoe.files.wordpress.com/2008/03/passion_68_f.jpg&amp;imgrefurl=http://fatherjoe.wordpress.com/2008/03/27/2959/&amp;usg=__jAXJFn6QT_jCYMzGEbW9FZglybs=&amp;h=500&amp;w=375&amp;sz=42&amp;hl=en&amp;start=20&amp;tbnid=iVvjSxul_w6PuM:&amp;tbnh=130&amp;tbnw=98&amp;prev=/images%3Fq%3DJesus%2BPassion%2Bmovie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o do you say I A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sing with Cultists:  He i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 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rst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do you say I A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ess you believe that I AM, you will die in your sins.  (Jn. 8 2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we need to believe exactl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, being a man, make yourself out to be God.  (Jn. 10:3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rst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ed, did God say…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ortion of Je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latians (1:6, 1: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inthians (2 Cor. 11:3-4, 13-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John’s Gnosticism / docetism (1:1, 4: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nosticism:  separation of material and spiritual; higher knowled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istian Science:  Mary Baker Eddy, “The Spiritual Christ was infallible; Jesus, as material manhood, was not Christ.”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anism: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s the first creation of God the Father, “there was a time when Christ was not.”  demi-go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hovah’s Witnesses: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les Russell Taz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ther words, he was the first and direct creation of Jehovah God.”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y Tri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thei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exa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monism (LD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seph Sm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x view of Father, Jesus; created son of God and exalted 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y Trinity, but affirm tritheistic 3-gods with one purp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writings from Moroni and Ne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ture T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we talk to cultists or others who have a distorted view of Jesu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portunities greater than e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 Principles for Conversing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on Rhod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neglect your people skil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assume all members of a group believe the same 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ways define your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get fluster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Scripture referen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 your testimon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900520" cy="3733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366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2809800"/>
            <a:ext cx="3200400" cy="404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819520" y="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181480" y="3176640"/>
            <a:ext cx="241308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925720" y="3505320"/>
            <a:ext cx="242100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593120" y="4952880"/>
            <a:ext cx="15508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543800" y="3505320"/>
            <a:ext cx="16002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0:37:36Z</dcterms:created>
  <dc:creator>HP Authorized Customer</dc:creator>
  <dc:description/>
  <dc:language>en-US</dc:language>
  <cp:lastModifiedBy>HP Authorized Customer</cp:lastModifiedBy>
  <dcterms:modified xsi:type="dcterms:W3CDTF">2009-03-26T12:27:10Z</dcterms:modified>
  <cp:revision>5</cp:revision>
  <dc:subject/>
  <dc:title>Slide 1</dc:title>
</cp:coreProperties>
</file>